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ED5-52E7-40C3-8CBA-1467741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1A3-48E2-44EE-90E2-435E88C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8EB-B5BF-4616-BE59-7592FF55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B5E-D8BD-443C-9DDB-51549D3F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A56-2422-4146-A562-1D0EDF0C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D36-60C1-4614-AB4C-385E3BC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2AD-F539-4034-B236-9AD049BE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AEE-0684-4E7A-8782-44A9BA8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CF1-69A8-4906-A892-24869A2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C07-0389-4B75-BA3C-8A583D9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F3A-6DF2-40DC-A24B-5412269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E6A-7800-44ED-992C-C245A576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Chalk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90A-CD3A-47B3-9038-FC79AA33F1A4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 u="sng">
                <a:solidFill>
                  <a:srgbClr val="333399"/>
                </a:solidFill>
                <a:uFillTx/>
                <a:latin typeface="Chalkboard"/>
              </a:rPr>
              <a:t>Los opuestos</a:t>
            </a:r>
            <a:endParaRPr b="0" lang="en-US" sz="79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joven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5534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iente              frí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ontento              trist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eno                 mal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a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alt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727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grande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uchos             poco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nuev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952880" cy="3119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9621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nto                rápi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167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filado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gor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5973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a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alt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727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uav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d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64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44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aro                  osc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23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joven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5534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iente              frí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720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ontento              triste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eno                 mal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grande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pequeñ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muchos             pocos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2438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viejo 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nuev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495288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39625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nto                rápi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167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filado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gord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5973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suav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      d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267080" cy="46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444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laro                  oscuro</a:t>
            </a:r>
            <a:endParaRPr b="0" lang="en-US" sz="4400" spc="-1" strike="noStrike">
              <a:solidFill>
                <a:srgbClr val="000000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lkboar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23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0:09:45Z</dcterms:created>
  <dc:creator>HPS User</dc:creator>
  <dc:description/>
  <dc:language>en-US</dc:language>
  <cp:lastModifiedBy>HPS</cp:lastModifiedBy>
  <dcterms:modified xsi:type="dcterms:W3CDTF">2007-10-20T20:50:36Z</dcterms:modified>
  <cp:revision>18</cp:revision>
  <dc:subject/>
  <dc:title>PowerPoint Presentation</dc:title>
</cp:coreProperties>
</file>